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D6B7-9751-488A-B231-2C2B842EF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C3C0-9A20-4381-9B83-2D999507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9E46-6E0C-4C69-8D7C-069CBC64B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D434-8425-400A-B180-670271FA7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B803-E9ED-4A1E-AF26-CB2A08849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86D2-F5F6-4218-A296-B20826AE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7B4A-0329-4191-B296-EE98EAE2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88BB-971D-4143-951D-A0BBF083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82F7-5154-4DE3-B1AD-17AB2A73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B7F4-BD46-49B6-8ABD-0FC5EA58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E308-D64A-4A1B-B5EC-891F4152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8CF9-763F-4002-B1B4-D86F318B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A410-53AB-4422-8D49-B7640230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F874-C120-4A19-B0FD-1E527E4E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71BB4-9FAB-4D67-95E0-19F869D3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39B0-DEFB-4A1D-B929-8C5B60B24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251B-8F97-4672-ABEC-E7DD470A7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5A2D-C895-4056-B75C-313F0323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4CC0-DA20-444C-AF57-5A5D9E6A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45FF-64BA-40DB-BCFE-AFEBB434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13EA-EE6C-4D2C-82D5-56C6DE16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9DF7-1C7A-4CC0-8D35-14BD4E9B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9B5A-D5E6-46F4-BC0C-AFCE4BC3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2352-7186-4A30-9E35-3927761D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BFFC-3682-47F2-BA7A-3A62DE9070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E329-1D59-46D9-B156-835951E383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Comic Sans MS"/>
              </a:rPr>
              <a:t>El texto argumentativo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gunda par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La obje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0356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 argumentar hay que saber presentar objeciones ante los argumentos de los demás, saber expresar nuestro desacuerdo y explicar por qué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036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Es una pena que no dejen ir a los perros a la mayoría de las playas. La gente que está de acuerdo cree que molestan y ensucian; pero no tienen en cuenta que hay personas que también </a:t>
            </a: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Comic Sans MS"/>
              </a:rPr>
              <a:t>molestan, y mucho (gritan, ponen la radio a todo volumen, juegan a la pelota sin importarles si dan a alguien), y ensuciar no digam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Dar y escuchar opinion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456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uando damos opiniones, o cuando escuchamos las de los demás, y cuando entramos en razonamientos, estamos argumentan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 hacerlo nos aparecen diversas posibilidades.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Cómo expresarnos cuando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  que dice otra persona es cierto, pero no en su totalidad: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oncesió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Queremos corregir, concretar algo que hemos dicho: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orrección</a:t>
            </a:r>
            <a:r>
              <a:rPr b="1" lang="en-US" sz="2800" spc="-1" strike="noStrike">
                <a:solidFill>
                  <a:srgbClr val="cccc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r>
              <a:rPr b="1" lang="en-US" sz="2800" spc="-1" strike="noStrike">
                <a:solidFill>
                  <a:srgbClr val="cccc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ejemplificació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Queremos destacar lo important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:</a:t>
            </a:r>
            <a:r>
              <a:rPr b="1" lang="en-US" sz="2800" spc="-1" strike="noStrike">
                <a:solidFill>
                  <a:srgbClr val="cccc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énfasi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 estamos seguros de algo: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hipótesi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enemos que concretar la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nalida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bemos indicar las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ausa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onsecuencia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Queremos explicar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por qué no estamos de acuerdo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La conces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280360" cy="4680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a concesión es una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ontraargumentación.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 Consiste en aceptar que una persona tiene razón en algún aspecto, pero se olvida de algo para nosotros fundament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0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00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i="1" lang="es-ES" sz="2400" spc="-1" strike="noStrike">
                <a:solidFill>
                  <a:srgbClr val="008000"/>
                </a:solidFill>
                <a:latin typeface="Comic Sans MS"/>
              </a:rPr>
              <a:t>Aunque es cierto que .......  eso no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00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i="1" lang="es-ES" sz="2400" spc="-1" strike="noStrike">
                <a:solidFill>
                  <a:srgbClr val="008000"/>
                </a:solidFill>
                <a:latin typeface="Comic Sans MS"/>
              </a:rPr>
              <a:t>Es verdad que ... pero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00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i="1" lang="es-ES" sz="2400" spc="-1" strike="noStrike">
                <a:solidFill>
                  <a:srgbClr val="008000"/>
                </a:solidFill>
                <a:latin typeface="Comic Sans MS"/>
              </a:rPr>
              <a:t>Hay que reconocer que tienen parte de razón, pero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00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i="1" lang="es-ES" sz="2400" spc="-1" strike="noStrike">
                <a:solidFill>
                  <a:srgbClr val="008000"/>
                </a:solidFill>
                <a:latin typeface="Comic Sans MS"/>
              </a:rPr>
              <a:t>Estoy de acuerdo con los que dicen que ..., sin embargo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00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i="1" lang="es-ES" sz="2400" spc="-1" strike="noStrike">
                <a:solidFill>
                  <a:srgbClr val="008000"/>
                </a:solidFill>
                <a:latin typeface="Comic Sans MS"/>
              </a:rPr>
              <a:t>Muchas personas dicen que ... pero no se dan cuenta de que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Corrección y ejemplifica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060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Podemos corregir algo que hemos escrito justo antes, concretarlo, matizarlo y detallarlo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81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8000"/>
                </a:solidFill>
                <a:latin typeface="Comic Sans MS"/>
              </a:rPr>
              <a:t>   </a:t>
            </a:r>
            <a:r>
              <a:rPr b="0" i="1" lang="es-ES" sz="2800" spc="-1" strike="noStrike">
                <a:solidFill>
                  <a:srgbClr val="008000"/>
                </a:solidFill>
                <a:latin typeface="Comic Sans MS"/>
              </a:rPr>
              <a:t>Los entrenadores de fútbol tienen que tener en cuenta muchas cosas; </a:t>
            </a:r>
            <a:r>
              <a:rPr b="0" i="1" lang="es-ES" sz="2800" spc="-1" strike="noStrike" u="sng">
                <a:solidFill>
                  <a:srgbClr val="008000"/>
                </a:solidFill>
                <a:uFillTx/>
                <a:latin typeface="Comic Sans MS"/>
              </a:rPr>
              <a:t>mejor dicho</a:t>
            </a:r>
            <a:r>
              <a:rPr b="0" i="1" lang="es-ES" sz="2800" spc="-1" strike="noStrike">
                <a:solidFill>
                  <a:srgbClr val="008000"/>
                </a:solidFill>
                <a:latin typeface="Comic Sans MS"/>
              </a:rPr>
              <a:t>, mu-chísimas cosas </a:t>
            </a:r>
            <a:r>
              <a:rPr b="0" lang="es-ES" sz="2800" spc="-1" strike="noStrike">
                <a:solidFill>
                  <a:srgbClr val="008000"/>
                </a:solidFill>
                <a:latin typeface="Comic Sans MS"/>
              </a:rPr>
              <a:t>[y damos una lista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i="1" lang="es-ES" sz="2800" spc="-1" strike="noStrike">
                <a:solidFill>
                  <a:srgbClr val="008000"/>
                </a:solidFill>
                <a:latin typeface="Comic Sans MS"/>
              </a:rPr>
              <a:t>Tienen que tener en cuenta muchas cosas, </a:t>
            </a:r>
            <a:r>
              <a:rPr b="0" i="1" lang="es-ES" sz="2800" spc="-1" strike="noStrike" u="sng">
                <a:solidFill>
                  <a:srgbClr val="008000"/>
                </a:solidFill>
                <a:uFillTx/>
                <a:latin typeface="Comic Sans MS"/>
              </a:rPr>
              <a:t>por</a:t>
            </a:r>
            <a:r>
              <a:rPr b="0" i="1" lang="es-ES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i="1" lang="es-ES" sz="2800" spc="-1" strike="noStrike" u="sng">
                <a:solidFill>
                  <a:srgbClr val="008000"/>
                </a:solidFill>
                <a:uFillTx/>
                <a:latin typeface="Comic Sans MS"/>
              </a:rPr>
              <a:t>ejemplo</a:t>
            </a:r>
            <a:r>
              <a:rPr b="0" lang="es-ES" sz="2800" spc="-1" strike="noStrike">
                <a:solidFill>
                  <a:srgbClr val="008000"/>
                </a:solidFill>
                <a:latin typeface="Comic Sans MS"/>
              </a:rPr>
              <a:t>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El énfasi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uando damos nuestro punto de vista sobre algo, tenemos que tener un enfoque personal. Damos importancia a ciertas cosas, y no se la damos a otr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36036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A la hora d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hacer un ejercicio físico es </a:t>
            </a: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Comic Sans MS"/>
              </a:rPr>
              <a:t>muy importante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 hacer ejercicios de calentamiento.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36036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Comic Sans MS"/>
              </a:rPr>
              <a:t>Incluso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 hay estudios que demuestran que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36036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Comic Sans MS"/>
              </a:rPr>
              <a:t>Hasta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 quien es muy listo se equivoca a veces.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La hipótesi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na suposición nos permite dar razones, pues nos apoyamos en los efectos previstos, y podemos tener en cuenta si son positiv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26964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Supongamos que todos hiciéramos lo que nos diera la gana. ¿Que ocurriría? Pues que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[...] 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por eso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[...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La finalida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uchas veces hacemos cosas teniendo en cuenta un fin, por ello, cuando argumentamos, podemos relacionar ideas con los fines que nos proponem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27000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Comic Sans MS"/>
              </a:rPr>
              <a:t>Si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 queremos que </a:t>
            </a: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Comic Sans MS"/>
              </a:rPr>
              <a:t>haya un mejor clima en clase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[observa que estamos planteando una condición, y una finalidad en la que todos estamos de acuerdo] </a:t>
            </a: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Comic Sans MS"/>
              </a:rPr>
              <a:t>entonces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[consecuencia]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 todos deberíamos poner algo de nuestra parte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La causa y la consecuenci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39891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 hablar de una causa, el nexo más usual es la conjunción "porque“, pero hay otras posibilidades: 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ya que, dado que, pues, puesto que, visto que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as consecuencias se relacionan con las causas; es como el reverso de una medalla. Los conectores que expresan consecuencia son: 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por tanto, por ello, por eso, en consecuencia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2T16:08:15Z</dcterms:created>
  <dc:creator>Guillermo</dc:creator>
  <dc:description/>
  <dc:language>en-US</dc:language>
  <cp:lastModifiedBy>Guillermo</cp:lastModifiedBy>
  <dcterms:modified xsi:type="dcterms:W3CDTF">2014-07-19T13:06:36Z</dcterms:modified>
  <cp:revision>10</cp:revision>
  <dc:subject/>
  <dc:title>El texto argumentativo</dc:title>
</cp:coreProperties>
</file>